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</p:sldMasterIdLst>
  <p:sldIdLst>
    <p:sldId id="256" r:id="rId25"/>
    <p:sldId id="257" r:id="rId26"/>
    <p:sldId id="258" r:id="rId27"/>
    <p:sldId id="259" r:id="rId28"/>
    <p:sldId id="26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" Target="slides/slide1.xml"/><Relationship Id="rId26" Type="http://schemas.openxmlformats.org/officeDocument/2006/relationships/slide" Target="slides/slide2.xml"/><Relationship Id="rId27" Type="http://schemas.openxmlformats.org/officeDocument/2006/relationships/slide" Target="slides/slide3.xml"/><Relationship Id="rId28" Type="http://schemas.openxmlformats.org/officeDocument/2006/relationships/slide" Target="slides/slide4.xml"/><Relationship Id="rId29" Type="http://schemas.openxmlformats.org/officeDocument/2006/relationships/slide" Target="slides/slide5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62FA5-EB86-4A98-B606-320ED9FB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A351B-5C9F-4A42-9DBB-1F0B70F87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D8249F-1684-4616-9D4B-461E6FD2C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C777D9-5F70-4D28-9F8A-F980852D3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C4A3F8-0233-49BD-AE0B-CBDE04AEE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C1D1DA-6680-45B6-BC8C-EC7BA1ADE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CB0F26-D83A-4278-BA2F-B3C02D937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511E93-EDA5-49CC-A7F6-67722A844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35C74D-9FF3-4F02-AE5B-22C851C33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DA0FAE-B0A4-4F3F-9D6A-C3879BE9C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606C2AC-82DA-4864-94A3-5042AF587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F03459-D78B-4770-9FAE-3CA85F45E4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9D9C-3837-4393-A322-C0E45383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161D8-9068-4C8F-8D0A-A2D044022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D25B9F-ADC1-4508-A014-733FBEE456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4D2A79-D981-47ED-BB17-726A4D09EE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FB85D25-FD01-4D28-80F5-50CACA56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41CE20-36D3-4BAA-AFEC-544AC0507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91BD00-7778-4F69-8EE4-0026037B6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0157C5-168F-4B19-8123-381E736DD5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EDB863-3B9E-4C4B-A9C1-A6101A8C9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60D37D-2192-463A-9DBF-9D6F30731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B922130-1D42-4C5C-A882-2766A39FC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5974-91CA-4D10-B9FE-5CFB73A95B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E34598-FF7C-4EAF-825F-6CE94D1127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C61DB9-D211-4F41-85D8-212BE4C17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0477F5-0C41-470A-A75F-A562BFE0C2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8673A0-0C78-45FE-B039-F565DC508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7E90B-E008-462C-B79B-0369214B0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DCF4CE-DD42-43D5-BD4A-39950D7B1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51DF7E0-917E-4F74-9FEA-4020ACDF0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A195CC-FCFB-4224-8BB8-57DEE0FD2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949243-BDDF-43E3-951B-506CC7810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C0BD59-AF8E-4CE5-B59F-990883AF7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4F4A45-0C94-4334-A08F-8C4F493BC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5E3351-5405-467B-8EE5-57374E3308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429D9A-09D5-46B6-B59C-16D76BCBB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F361DE-263B-40B1-9BA8-C00461D0A0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D8306C-C977-43D5-B878-AE8DBCEF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06D7F-5D48-4B40-8D25-4DC6CBB0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09EC66-A804-4E8A-B2F1-D53E6A36F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BB1E233-84A0-405C-AAE3-0D68C720A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B6DFF-D39C-415F-9906-2E9A1A1DF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EF2ABA-06EE-4CEE-8403-D2B80FF52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99E1D44-7B7C-4A10-A981-885189ED3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D54F0-02B1-45B4-B392-19B6FE461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321CCD5-02DF-4525-A319-B45C43A4C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C77D44B-1F5A-4578-AE65-B6A0A9344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BB2A9C-34A6-40C8-9D5D-1F7A81134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49409-2F23-4E8A-B006-6CBED4F0B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412C23-3732-4252-B63E-F61C1A7DA0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5F3B340-FAE5-4E10-8378-992DCEF57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1AD50-008A-4F3D-B545-6F02E112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B5659C6-C7E5-499F-98D8-CF0062476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41EB91-D146-47F1-9A9C-62B457A82A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D556004-4FFF-429B-8D13-CC482E6A6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67AF2-052A-411A-8579-7BFBB3760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024C508-CF92-45EF-A52D-C281CE11F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38BA94D-A957-483B-9E47-4D1D75992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AEF42A3-A9C8-4942-A62A-C01C7771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F841D0A-7A74-4FC5-B366-12C03904E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A8B302-9C9E-4193-852E-2C1B97385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1E8829-4809-4BCA-9680-21219E019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0B2FC43-5EEE-40B1-A515-8A4CA7885A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41B1C42-C4CE-4480-9B66-BEBAD404D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F85AF31-7491-4745-AB0D-E03953147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1A0A782-D4CA-43E3-86C8-9AB7DCA11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EBA92-41E6-4724-82FF-6FB4A6434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2989EB3-6B64-4D59-828A-62D8D5DCE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650E9E-3451-4252-8FDB-4A3E3F3F6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737ABE-2FD6-47C1-96EB-AD45897CA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58C2AF-BD8B-4486-8BF6-01CC04C3E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FAFB5F-BFF3-41D0-83B6-56143198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46F14A-9497-4A05-B8C0-68F64A4281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114A976-DDAF-4CBC-BD3D-6DFD86A24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C8471C-8D3F-47DB-AC68-8EE5F9240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F93A3A-22C2-4269-A234-90E94B2ABD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C5281F7-94ED-4D84-B311-4BAA2E6AC4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4FDD6-2B20-4E98-9E71-609C12CEA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294582-6216-4DD7-9B86-2757B55F2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635B724-4A29-486C-8694-6A2E94EE6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1DE3DA-74D4-4B72-84D7-725CED7B8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296D8D9-5B9A-4D3E-8A45-5D9E8CE10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2159E43-8A7D-4DB8-9958-F7C34576F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179CD81-CE12-4357-BCA1-790571ED7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120630B-DC03-4EE5-B6EA-2BCAD7612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AC4B788-C65F-4E3E-8589-1CDFBFA43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26D4124-0419-4E41-BB4F-E56FF31072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269CDD8-3E93-471F-90BE-37698FAFCF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75352-A000-40D6-A78F-2A26A1A7C5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FAF7232-B0F7-42AC-A4F5-46A811956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76A2C10-2248-4CCE-9C38-7B11B7B4C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35B6E9-E251-4B9E-8025-2ADB7A9EE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4A7B5-8628-4AFE-BD74-F7F978FB4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D7B2B2-3B8A-4C41-8D1D-6BC7597DA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937BA10-67CB-43D0-8EAB-FDDED65A8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69C9EA7-E6DB-4186-BB61-547188C7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E85BB60-B795-4712-AE78-AF01FD2E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6918E1-197A-4E61-9EE1-FA33221A6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E26D54F-D237-4B22-A350-3F181B562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92F0E-576B-4D5A-9459-494983EEA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34E0ECB-C3C0-4715-9BE8-D449ADCB7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4C39463-9A4A-4B9C-815F-6E1548194F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6E1D43E-43FF-4CFB-B14C-6FCD27C8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625DA3-A15C-494C-B979-44602F5C6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8DD8F0-199F-4083-B600-54A724A93E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2F13C5-8096-4982-9E9D-25F10119BA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028AC79-47A7-4003-B1CF-8F91F4216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73682-9451-4158-8933-FE4E241A8C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8EBC68-D598-4948-A41B-59007E30F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DECD49B-D452-47C8-922F-F4149056A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01ED-EDD8-4CE9-9580-F44FB9C90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51919-B2FC-449F-BEFB-D5708EC3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47E6AB6-AB9E-4ECB-B55C-4DE60677E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6B47BC5-79EF-4EEE-B7C1-B58DF890C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F41C504-DD87-49CA-9912-3EE0EF2C2A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654B0CC-57BE-4A66-89E6-4B7414340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C95B0A8-A460-4D07-B71C-1CE8CE79D3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F4A2C3D-34DC-4840-84C3-A19CF112D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05583DF-812A-49AF-89B7-8E1E8F423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D942A1-49EE-4095-8C9A-DB9A2DF9B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BD910B6-3EB7-45CB-935E-55F6E3A2E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39DEEA7-6F63-4F55-97BF-12BD2DE8D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29E14-DA92-4DB7-B434-681BD71E6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FF44E37-E19A-49B1-8B58-FBD0D662E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5F746E7-463E-401E-8D53-C8DE4D39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D7B9ACA-ABD8-4B9C-988B-2DC94A3A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637F3B2-508E-41E4-961F-D10604B51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BEF71E3-68AA-4B81-A68B-55CACDCEC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1410333-7142-47C9-AE2A-15C58613E6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9372B2A-F0C4-438D-B41D-5D588A1476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179A7CC-D66D-4FFC-9B11-011C17241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0B7066-4ACA-4F39-8298-15D7509C20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14EBC44-66FA-402B-A705-DF2A79A22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23B6-7B00-4995-880F-0C9157B3C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AD33995-5CD2-4C64-818D-114B4EB56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C75EBB8-D072-47F2-9F39-9A07B6F11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9AAC96-AFE8-4E4D-B313-B234478AF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D02077-9497-4029-88E1-397F82A52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0A61097-10AC-4651-9905-02ED42743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A4C8037-F34C-4B58-BAC0-B5BA651DE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E826964-A1D9-4A16-B981-5E411EC5A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CA34ABB-0199-437D-8C30-5ED89FEA3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833FA59-6E94-4558-9E75-62B88EC86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6CDBF5D-C5E5-43CF-B18B-FF29BEC6C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07425-D177-4FC1-95E8-12AB76569A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6006A99-11F8-4FEC-B712-E7F0B8D10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536FC75-AA48-442C-AC49-36604AA9E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7CD1D0-2957-439C-8FC3-FFCBBCDCA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48C0A09-5B83-49AB-9CB1-721817FD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59464F-15BA-4A30-A542-DC9360E2B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1B92237-01C3-4F19-814F-0696A3B8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1F3CF928-3336-41C4-894F-A427F21D7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FEB93F-EAF1-4675-A98C-FE360384D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37737D2-0126-49C6-BD49-BC93B58D2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69842D-56C6-4F2E-9CB0-A0B1CF59B9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61448-2BD1-4C91-8324-3F4C146DE0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70DC26A-FC01-4DAA-8CDC-AD4598A52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2FCE0F-ED2A-40A0-A972-96DA4C4A58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82EEDE8-283D-4EE5-9A9B-6B9759155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A86A13-E317-430A-8641-D20734C66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24F8719-4046-402D-8681-E239B0E2D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2EAFCE-23AB-4B5C-913B-5B07C0C7D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6D334B4-55B6-4E61-A7A5-F60CAD4C1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CE28C50-2C29-4EA8-9610-8F347A6FE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3B3028-1E5A-4C62-88AF-BFD08D29C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B549EEC-1478-4F8A-AD91-6D214FEE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39DEB0-3674-44E7-9C59-E21939312F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BE82B4-16FD-4B23-A9E8-49B187331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F822EBE-94EC-4170-BCBA-21AEDEED09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8959F9A-37F1-4714-84CE-F6E8B11402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BAD9111-1D62-4B55-857D-EB81E63B3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FF74255-78E3-4E32-9D6B-2AADE5959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EE7DB4D-73AE-4229-A324-D4AA40CFF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16AEF43-E87B-4EAC-B414-777106C35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AF1D27-102F-442E-8815-0DFF715AC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279A72C-6DF3-4D39-8037-88B796DFF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2A87386-193A-4E9F-AF71-9B2DB1E0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01A21-4EB0-4408-BB43-4026DDB6A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4175EA7-ED7A-45BF-A45F-FCB804516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7C51F58-688B-4EA9-B38F-591F2F4EC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8342F14-074F-4948-B819-9EF042BB5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BE87DDD-A5C2-4215-AB4D-DD9377B554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3BB0A6-BC07-49BB-B1D0-5A77B78E5E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C3376C1-F9C3-4779-8FC8-2CDF8B52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77A8B96-CCE5-451C-BAEF-71E1F8331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947E66-EFE0-4984-A316-1E03D6523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60F643C-B47B-4A03-8853-7BCAF6F26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4D113B3-48D4-423A-9150-1C0C82568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ABDB44-B95E-4282-948D-19ABEFAAD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D1D171-AC12-4442-B262-ACD9CBEFF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3C4B0E-65E3-460D-8FAC-7385B0412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B232EF-D369-4FA1-99C4-67480CC6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3DF2DB5-AEA2-417B-AD69-2A7748104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5384FC-6B3C-4323-A377-8DEAD5BBE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E8F9168-7EED-4542-A9A4-72495AFAD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554CF08-90FE-412F-A079-DCE7DB386F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FCF585-3A99-4C7C-808B-4A5A3C0F9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D20711-6F7E-4637-BF26-5CE5C367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ABA38-5CCF-4D62-9ACD-65A695D41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96D082-F923-4E25-AE09-6C3236C23B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871223-EFF9-4609-BFC2-2C6148FCA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04EC3-03DB-4297-B766-B76DB2D4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C9D5A-D205-43E9-8F73-2DBD273E9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CE8FB4-7EF8-4F5F-B30A-BEBF0B62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185F7D-BF54-46B6-AE92-4C70A061C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AC180C-1760-4567-92DA-4E73EA377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D92EA0-B091-456C-87FA-958EA0037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46587-BA9D-4689-BD61-08347606CB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26F89E8-0612-47E3-B4F4-39713ACC0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4817A-9735-40A5-B1F7-F5BD1CB75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C7D8A00-1276-4676-8A63-696A678B1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87BBAB-9EE0-4F13-BF3D-A5E44C4F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AB3B1E-F942-4D39-87EF-D3D8D5C3F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92839C-AAC7-4315-AD8B-688DDA0B7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F748D1-2B3F-4EF9-B593-F02A9E2A4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9DB573-1455-4AF1-BF60-44EEFA907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ED9778-EAAE-42C7-A8BC-A8DEF825D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98C7BB-35F8-42F6-B9C8-387F37F73C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AFC6B-641D-41C3-A1F9-929092FE9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7AC9F5-5AA2-4663-AFFD-A139EF490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CF145-8B71-45DC-9198-C20000ECE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AA6215-B94C-424D-A735-C4C21E86E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98782E-0EBE-400F-AC87-DC65A37DD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B60C9A-8774-4A6C-B0AC-1141B9AE6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9DD630D-A00C-4836-A9E5-5B84F71A2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CCF73F-12C4-4D65-98AA-4FE33DA4A4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A506B4-B436-46C8-B4CE-F1950927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15BB29-C7A1-451D-9BFB-C934312CA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023617-7C0B-413A-9D17-CB2153092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AF1B479-53D7-4E8A-83DF-C6C7E67AA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01D1028-0360-4832-9E40-6785CD402E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3EC8A-0649-47CF-82B8-665447D3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FDD32-76CD-42C3-A75F-CA5C1C88D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E94B68-E5EB-44D7-A9A0-C743718BBD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32A810-D658-469C-8763-8D7882842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F2C271-C060-4617-A977-EEE389C3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05D0A5D-5C4A-4FE8-A1C0-B7552DD95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2136B1-0784-4582-B72B-00F867CBB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05F09E-83D5-4474-BCEE-26EAF6F96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F7AB456-CD57-44CF-8F18-35E0254EFB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97D078-0ED4-4C11-B881-648CC08AD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4534D-C5BA-468E-A1B1-6549D3E44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A612-FB88-409C-B44A-F4C422C768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A01D0A-F809-4588-8A67-9DB1C01AF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CC277D-C16E-4F78-8765-EE24BB6371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17535D-1091-475B-99B2-88C172307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761B1A-889D-4A2E-885F-4B1CCBDDC1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F2EC747-D231-492B-9717-2F9E98852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2FCC28-8AB1-4F8E-B86F-587647495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4D1CEA-CD11-4DC6-9511-2D3E9BC40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053A82-B256-45B4-ABB8-B94AD955EB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EB3B77-B3F6-4691-ADC8-01A0EA72C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0A8ED87-293B-4570-8865-5649ABC91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0B42-3BB6-461D-BA8A-2446D69C7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772CCC-B5D8-4502-BBE8-210DBD789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5E35A-5819-43C7-A03D-3225437C9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524D116-FEE1-4873-82F8-BD90D81FD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75EA3-E815-410B-BD57-79B28C9E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F948AC1-6532-4C72-B3F4-A8C628B93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F931814-EA48-41B6-AA3A-75094AE94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D7D730-E329-462C-922D-DC3521859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540A8B5-DA24-4525-B745-5766FEB9F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F44F64E-88AA-481C-B251-ADFE315D72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50D59-B00B-43C7-BB57-C1E9FA26A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DDE9-E6A9-47C7-A6AF-83EE42FB1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453474-9A79-415A-B5A8-57B59A0A6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8F88220-1885-4C10-A991-7A29673F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B35E2D-BEF5-486A-819E-ED05A391F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14EE20D-AE44-47F8-BBCE-31955F47F2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ACEEBF-4869-40A7-9F31-17051E520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28D74D-AE8C-480E-A1E2-792AFFE22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FBF44B-168A-4FD4-AD21-48D7FB545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BC80C6A-2893-4A39-B71A-00A0B6B0F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5E178E-3C2D-46BE-9BBE-1B985CE4C2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86948F0-7142-46ED-96B8-568A16A95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21.xml"/><Relationship Id="rId8" Type="http://schemas.openxmlformats.org/officeDocument/2006/relationships/slideLayout" Target="../slideLayouts/slideLayout122.xml"/><Relationship Id="rId9" Type="http://schemas.openxmlformats.org/officeDocument/2006/relationships/slideLayout" Target="../slideLayouts/slideLayout123.xml"/><Relationship Id="rId10" Type="http://schemas.openxmlformats.org/officeDocument/2006/relationships/slideLayout" Target="../slideLayouts/slideLayout124.xml"/><Relationship Id="rId11" Type="http://schemas.openxmlformats.org/officeDocument/2006/relationships/slideLayout" Target="../slideLayouts/slideLayout125.xml"/><Relationship Id="rId12" Type="http://schemas.openxmlformats.org/officeDocument/2006/relationships/slideLayout" Target="../slideLayouts/slideLayout126.xml"/><Relationship Id="rId13" Type="http://schemas.openxmlformats.org/officeDocument/2006/relationships/slideLayout" Target="../slideLayouts/slideLayout127.xml"/><Relationship Id="rId14" Type="http://schemas.openxmlformats.org/officeDocument/2006/relationships/slideLayout" Target="../slideLayouts/slideLayout128.xml"/><Relationship Id="rId15" Type="http://schemas.openxmlformats.org/officeDocument/2006/relationships/slideLayout" Target="../slideLayouts/slideLayout129.xml"/><Relationship Id="rId16" Type="http://schemas.openxmlformats.org/officeDocument/2006/relationships/slideLayout" Target="../slideLayouts/slideLayout130.xml"/><Relationship Id="rId17" Type="http://schemas.openxmlformats.org/officeDocument/2006/relationships/slideLayout" Target="../slideLayouts/slideLayout131.xml"/><Relationship Id="rId18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A0BBD-4EE0-4EA2-BE1E-3D34E6F0ACE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FF5E98-18DF-4DF8-9B1F-D1929DF6566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B873-B4AB-449E-9335-3DE8549C8F2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1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452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3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454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458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1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4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475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476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F77E2C-4ED7-409E-8ECE-93137AD2059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F276D-F35C-4C0A-A944-57B77296CEC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7"/>
    <p:sldLayoutId id="2147483780" r:id="rId8"/>
    <p:sldLayoutId id="2147483781" r:id="rId9"/>
    <p:sldLayoutId id="2147483782" r:id="rId10"/>
    <p:sldLayoutId id="2147483783" r:id="rId11"/>
    <p:sldLayoutId id="2147483784" r:id="rId12"/>
    <p:sldLayoutId id="2147483785" r:id="rId13"/>
    <p:sldLayoutId id="2147483786" r:id="rId14"/>
    <p:sldLayoutId id="2147483787" r:id="rId15"/>
    <p:sldLayoutId id="2147483788" r:id="rId16"/>
    <p:sldLayoutId id="2147483789" r:id="rId17"/>
    <p:sldLayoutId id="2147483790" r:id="rId18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02BF61-C9B2-48C9-880F-E40A0E4EFCB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749BE-9781-4B8F-AAA3-0FB9CFC6FC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1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EFCD8-BE9F-4B07-AD9B-4CCDDFD1766A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16227-9ED9-410B-984C-85E02B29B3F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4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FDCBC-4CC3-4583-89CF-F8E36B1F824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F1646-5053-47B2-AB38-1EAD46F45B1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7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E949BE-E99C-49EF-97B9-21A5E3C63FF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C1319-B253-4B3E-BEB9-C0A41CBB80E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1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692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693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694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95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696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98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699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0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01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702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3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4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6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7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708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9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0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D0373-75C6-4FBA-BE12-DCC9D8034F5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545F-1DD8-4AEE-9C0D-F6E025D27B9D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3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754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755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6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7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8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9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760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761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2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3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2CDD7-BF27-452B-AA04-B41B511D743F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15B3D-433A-4D73-B348-D810D290F0D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7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E6F2-B3ED-41BB-A199-00D98307627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8E13-0D4D-4595-B82B-52A0129C399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1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852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853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4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5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6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7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58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859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0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1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3C22B-FE03-443F-94EB-72B50DFB5CE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A4078-0A04-4D77-8BCB-9AC7FDFC998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AD91B-C170-4DD6-8F5E-45352B0067DC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5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51E74-19D1-4392-8AB2-C69F6D347BB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2C9CD-077A-4A58-A311-7A50B63A24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8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9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950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951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2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3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4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955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6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7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DE325-1923-414A-A14F-7D03A3E4055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CEC17-A022-40E2-B16C-3CFC5450771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0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1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30924-FDD6-494F-BFA0-7CEE24C81A7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1DCDC-FB64-41A1-9FB0-41C450E9AF1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4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5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046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047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48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049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51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052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3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54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055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056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7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8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9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0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1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062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3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4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72978-2A48-4F53-8B7D-06D2956EC6F5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08115-9AC2-4EB8-A311-BA88FF3D6DB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EC827-01D6-43AA-98E5-EC89D5C1F04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5FC69-AB70-43FA-9738-B23AE82F150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25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2650F-67AB-4D15-AF2E-2FACED2A051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168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0E3F-4BED-4D02-8DFA-130F4B91782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212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213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4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215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221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82BC29-D723-47FB-8837-45444E8177D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311F-B711-4A95-9A48-E4C578237FA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6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B25AD-F88B-4C6F-86B0-DF9A7DF6763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0407-0EF7-463D-BD6A-2D88FD124DF5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9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310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311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312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17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318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9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0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21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C318BF-F466-426B-975A-24EA06398D1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F63E2-4AB5-4CC4-9DBD-F5601AC24E8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4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119D0-4984-4579-A131-B3E81FBA3C4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3F968-F725-4947-9449-337AEA2DFDC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6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6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image" Target="../media/image13.png"/><Relationship Id="rId10" Type="http://schemas.openxmlformats.org/officeDocument/2006/relationships/image" Target="../media/image13.png"/><Relationship Id="rId11" Type="http://schemas.openxmlformats.org/officeDocument/2006/relationships/image" Target="../media/image13.png"/><Relationship Id="rId12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image" Target="../media/image13.png"/><Relationship Id="rId8" Type="http://schemas.openxmlformats.org/officeDocument/2006/relationships/image" Target="../media/image13.png"/><Relationship Id="rId9" Type="http://schemas.openxmlformats.org/officeDocument/2006/relationships/slideLayout" Target="../slideLayouts/slideLayout6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6" name="图片 1" descr=""/>
          <p:cNvPicPr/>
          <p:nvPr/>
        </p:nvPicPr>
        <p:blipFill>
          <a:blip r:embed="rId1"/>
          <a:stretch/>
        </p:blipFill>
        <p:spPr>
          <a:xfrm>
            <a:off x="828720" y="3048120"/>
            <a:ext cx="7486560" cy="76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7" name="图片 1" descr=""/>
          <p:cNvPicPr/>
          <p:nvPr/>
        </p:nvPicPr>
        <p:blipFill>
          <a:blip r:embed="rId1"/>
          <a:stretch/>
        </p:blipFill>
        <p:spPr>
          <a:xfrm>
            <a:off x="290520" y="1028880"/>
            <a:ext cx="8561520" cy="4800600"/>
          </a:xfrm>
          <a:prstGeom prst="rect">
            <a:avLst/>
          </a:prstGeom>
          <a:ln w="0">
            <a:noFill/>
          </a:ln>
        </p:spPr>
      </p:pic>
      <p:pic>
        <p:nvPicPr>
          <p:cNvPr id="1108" name="Picture 1" descr=""/>
          <p:cNvPicPr/>
          <p:nvPr/>
        </p:nvPicPr>
        <p:blipFill>
          <a:blip r:embed="rId2"/>
          <a:stretch/>
        </p:blipFill>
        <p:spPr>
          <a:xfrm>
            <a:off x="539640" y="141300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09" name="Picture 1" descr=""/>
          <p:cNvPicPr/>
          <p:nvPr/>
        </p:nvPicPr>
        <p:blipFill>
          <a:blip r:embed="rId3"/>
          <a:stretch/>
        </p:blipFill>
        <p:spPr>
          <a:xfrm>
            <a:off x="539640" y="270828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0" name="Picture 1" descr=""/>
          <p:cNvPicPr/>
          <p:nvPr/>
        </p:nvPicPr>
        <p:blipFill>
          <a:blip r:embed="rId4"/>
          <a:stretch/>
        </p:blipFill>
        <p:spPr>
          <a:xfrm>
            <a:off x="611280" y="3860640"/>
            <a:ext cx="360360" cy="290520"/>
          </a:xfrm>
          <a:prstGeom prst="rect">
            <a:avLst/>
          </a:prstGeom>
          <a:ln w="0">
            <a:noFill/>
          </a:ln>
        </p:spPr>
      </p:pic>
      <p:pic>
        <p:nvPicPr>
          <p:cNvPr id="1111" name="Picture 1" descr=""/>
          <p:cNvPicPr/>
          <p:nvPr/>
        </p:nvPicPr>
        <p:blipFill>
          <a:blip r:embed="rId5"/>
          <a:stretch/>
        </p:blipFill>
        <p:spPr>
          <a:xfrm>
            <a:off x="611280" y="465300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1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1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1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2" name="图片 1" descr=""/>
          <p:cNvPicPr/>
          <p:nvPr/>
        </p:nvPicPr>
        <p:blipFill>
          <a:blip r:embed="rId1"/>
          <a:stretch/>
        </p:blipFill>
        <p:spPr>
          <a:xfrm>
            <a:off x="700200" y="2262240"/>
            <a:ext cx="7742160" cy="2333520"/>
          </a:xfrm>
          <a:prstGeom prst="rect">
            <a:avLst/>
          </a:prstGeom>
          <a:ln w="0">
            <a:noFill/>
          </a:ln>
        </p:spPr>
      </p:pic>
      <p:pic>
        <p:nvPicPr>
          <p:cNvPr id="1113" name="Picture 1" descr=""/>
          <p:cNvPicPr/>
          <p:nvPr/>
        </p:nvPicPr>
        <p:blipFill>
          <a:blip r:embed="rId2"/>
          <a:stretch/>
        </p:blipFill>
        <p:spPr>
          <a:xfrm>
            <a:off x="971640" y="2276640"/>
            <a:ext cx="360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1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4" name="图片 1" descr=""/>
          <p:cNvPicPr/>
          <p:nvPr/>
        </p:nvPicPr>
        <p:blipFill>
          <a:blip r:embed="rId1"/>
          <a:stretch/>
        </p:blipFill>
        <p:spPr>
          <a:xfrm>
            <a:off x="380880" y="1000080"/>
            <a:ext cx="8382240" cy="4857840"/>
          </a:xfrm>
          <a:prstGeom prst="rect">
            <a:avLst/>
          </a:prstGeom>
          <a:ln w="0">
            <a:noFill/>
          </a:ln>
        </p:spPr>
      </p:pic>
      <p:pic>
        <p:nvPicPr>
          <p:cNvPr id="1115" name="Picture 1" descr=""/>
          <p:cNvPicPr/>
          <p:nvPr/>
        </p:nvPicPr>
        <p:blipFill>
          <a:blip r:embed="rId2"/>
          <a:stretch/>
        </p:blipFill>
        <p:spPr>
          <a:xfrm>
            <a:off x="1692360" y="144612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16" name="Picture 1" descr=""/>
          <p:cNvPicPr/>
          <p:nvPr/>
        </p:nvPicPr>
        <p:blipFill>
          <a:blip r:embed="rId3"/>
          <a:stretch/>
        </p:blipFill>
        <p:spPr>
          <a:xfrm>
            <a:off x="1509840" y="184464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17" name="Picture 1" descr=""/>
          <p:cNvPicPr/>
          <p:nvPr/>
        </p:nvPicPr>
        <p:blipFill>
          <a:blip r:embed="rId4"/>
          <a:stretch/>
        </p:blipFill>
        <p:spPr>
          <a:xfrm>
            <a:off x="1619280" y="2243160"/>
            <a:ext cx="720720" cy="290520"/>
          </a:xfrm>
          <a:prstGeom prst="rect">
            <a:avLst/>
          </a:prstGeom>
          <a:ln w="0">
            <a:noFill/>
          </a:ln>
        </p:spPr>
      </p:pic>
      <p:pic>
        <p:nvPicPr>
          <p:cNvPr id="1118" name="Picture 1" descr=""/>
          <p:cNvPicPr/>
          <p:nvPr/>
        </p:nvPicPr>
        <p:blipFill>
          <a:blip r:embed="rId5"/>
          <a:stretch/>
        </p:blipFill>
        <p:spPr>
          <a:xfrm>
            <a:off x="2268360" y="2655720"/>
            <a:ext cx="1008360" cy="29052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1" descr=""/>
          <p:cNvPicPr/>
          <p:nvPr/>
        </p:nvPicPr>
        <p:blipFill>
          <a:blip r:embed="rId6"/>
          <a:stretch/>
        </p:blipFill>
        <p:spPr>
          <a:xfrm>
            <a:off x="3348000" y="305928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20" name="Picture 1" descr=""/>
          <p:cNvPicPr/>
          <p:nvPr/>
        </p:nvPicPr>
        <p:blipFill>
          <a:blip r:embed="rId7"/>
          <a:stretch/>
        </p:blipFill>
        <p:spPr>
          <a:xfrm>
            <a:off x="4859280" y="386064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21" name="Picture 1" descr=""/>
          <p:cNvPicPr/>
          <p:nvPr/>
        </p:nvPicPr>
        <p:blipFill>
          <a:blip r:embed="rId8"/>
          <a:stretch/>
        </p:blipFill>
        <p:spPr>
          <a:xfrm>
            <a:off x="4572000" y="4273560"/>
            <a:ext cx="792000" cy="290520"/>
          </a:xfrm>
          <a:prstGeom prst="rect">
            <a:avLst/>
          </a:prstGeom>
          <a:ln w="0">
            <a:noFill/>
          </a:ln>
        </p:spPr>
      </p:pic>
      <p:pic>
        <p:nvPicPr>
          <p:cNvPr id="1122" name="Picture 1" descr=""/>
          <p:cNvPicPr/>
          <p:nvPr/>
        </p:nvPicPr>
        <p:blipFill>
          <a:blip r:embed="rId9"/>
          <a:stretch/>
        </p:blipFill>
        <p:spPr>
          <a:xfrm>
            <a:off x="1835280" y="4662360"/>
            <a:ext cx="792000" cy="290520"/>
          </a:xfrm>
          <a:prstGeom prst="rect">
            <a:avLst/>
          </a:prstGeom>
          <a:ln w="0">
            <a:noFill/>
          </a:ln>
        </p:spPr>
      </p:pic>
      <p:pic>
        <p:nvPicPr>
          <p:cNvPr id="1123" name="Picture 1" descr=""/>
          <p:cNvPicPr/>
          <p:nvPr/>
        </p:nvPicPr>
        <p:blipFill>
          <a:blip r:embed="rId10"/>
          <a:stretch/>
        </p:blipFill>
        <p:spPr>
          <a:xfrm>
            <a:off x="4716360" y="5070600"/>
            <a:ext cx="792360" cy="290520"/>
          </a:xfrm>
          <a:prstGeom prst="rect">
            <a:avLst/>
          </a:prstGeom>
          <a:ln w="0">
            <a:noFill/>
          </a:ln>
        </p:spPr>
      </p:pic>
      <p:pic>
        <p:nvPicPr>
          <p:cNvPr id="1124" name="Picture 1" descr=""/>
          <p:cNvPicPr/>
          <p:nvPr/>
        </p:nvPicPr>
        <p:blipFill>
          <a:blip r:embed="rId11"/>
          <a:stretch/>
        </p:blipFill>
        <p:spPr>
          <a:xfrm>
            <a:off x="2627280" y="5473800"/>
            <a:ext cx="79236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" dur="500"/>
                                        <p:tgtEl>
                                          <p:spTgt spid="11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0" dur="500"/>
                                        <p:tgtEl>
                                          <p:spTgt spid="11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5" dur="500"/>
                                        <p:tgtEl>
                                          <p:spTgt spid="1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500"/>
                                        <p:tgtEl>
                                          <p:spTgt spid="11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11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11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11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0" dur="500"/>
                                        <p:tgtEl>
                                          <p:spTgt spid="1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5" name="图片 1" descr=""/>
          <p:cNvPicPr/>
          <p:nvPr/>
        </p:nvPicPr>
        <p:blipFill>
          <a:blip r:embed="rId1"/>
          <a:stretch/>
        </p:blipFill>
        <p:spPr>
          <a:xfrm>
            <a:off x="123840" y="1181160"/>
            <a:ext cx="8896320" cy="4495680"/>
          </a:xfrm>
          <a:prstGeom prst="rect">
            <a:avLst/>
          </a:prstGeom>
          <a:ln w="0">
            <a:noFill/>
          </a:ln>
        </p:spPr>
      </p:pic>
      <p:pic>
        <p:nvPicPr>
          <p:cNvPr id="1126" name="Picture 1" descr=""/>
          <p:cNvPicPr/>
          <p:nvPr/>
        </p:nvPicPr>
        <p:blipFill>
          <a:blip r:embed="rId2"/>
          <a:stretch/>
        </p:blipFill>
        <p:spPr>
          <a:xfrm>
            <a:off x="1476360" y="2008080"/>
            <a:ext cx="1295280" cy="2905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1" descr=""/>
          <p:cNvPicPr/>
          <p:nvPr/>
        </p:nvPicPr>
        <p:blipFill>
          <a:blip r:embed="rId3"/>
          <a:stretch/>
        </p:blipFill>
        <p:spPr>
          <a:xfrm>
            <a:off x="3564000" y="1998720"/>
            <a:ext cx="1079280" cy="290520"/>
          </a:xfrm>
          <a:prstGeom prst="rect">
            <a:avLst/>
          </a:prstGeom>
          <a:ln w="0">
            <a:noFill/>
          </a:ln>
        </p:spPr>
      </p:pic>
      <p:pic>
        <p:nvPicPr>
          <p:cNvPr id="1128" name="Picture 1" descr=""/>
          <p:cNvPicPr/>
          <p:nvPr/>
        </p:nvPicPr>
        <p:blipFill>
          <a:blip r:embed="rId4"/>
          <a:stretch/>
        </p:blipFill>
        <p:spPr>
          <a:xfrm>
            <a:off x="2340000" y="2790720"/>
            <a:ext cx="2016000" cy="290520"/>
          </a:xfrm>
          <a:prstGeom prst="rect">
            <a:avLst/>
          </a:prstGeom>
          <a:ln w="0">
            <a:noFill/>
          </a:ln>
        </p:spPr>
      </p:pic>
      <p:pic>
        <p:nvPicPr>
          <p:cNvPr id="1129" name="Picture 1" descr=""/>
          <p:cNvPicPr/>
          <p:nvPr/>
        </p:nvPicPr>
        <p:blipFill>
          <a:blip r:embed="rId5"/>
          <a:stretch/>
        </p:blipFill>
        <p:spPr>
          <a:xfrm>
            <a:off x="3203640" y="362124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30" name="Picture 1" descr=""/>
          <p:cNvPicPr/>
          <p:nvPr/>
        </p:nvPicPr>
        <p:blipFill>
          <a:blip r:embed="rId6"/>
          <a:stretch/>
        </p:blipFill>
        <p:spPr>
          <a:xfrm>
            <a:off x="5076720" y="3625920"/>
            <a:ext cx="1224000" cy="290520"/>
          </a:xfrm>
          <a:prstGeom prst="rect">
            <a:avLst/>
          </a:prstGeom>
          <a:ln w="0">
            <a:noFill/>
          </a:ln>
        </p:spPr>
      </p:pic>
      <p:pic>
        <p:nvPicPr>
          <p:cNvPr id="1131" name="Picture 1" descr=""/>
          <p:cNvPicPr/>
          <p:nvPr/>
        </p:nvPicPr>
        <p:blipFill>
          <a:blip r:embed="rId7"/>
          <a:stretch/>
        </p:blipFill>
        <p:spPr>
          <a:xfrm>
            <a:off x="539640" y="4427640"/>
            <a:ext cx="4176720" cy="290520"/>
          </a:xfrm>
          <a:prstGeom prst="rect">
            <a:avLst/>
          </a:prstGeom>
          <a:ln w="0">
            <a:noFill/>
          </a:ln>
        </p:spPr>
      </p:pic>
      <p:pic>
        <p:nvPicPr>
          <p:cNvPr id="1132" name="Picture 1" descr=""/>
          <p:cNvPicPr/>
          <p:nvPr/>
        </p:nvPicPr>
        <p:blipFill>
          <a:blip r:embed="rId8"/>
          <a:stretch/>
        </p:blipFill>
        <p:spPr>
          <a:xfrm>
            <a:off x="3995640" y="5224320"/>
            <a:ext cx="2881440" cy="29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7" dur="500"/>
                                        <p:tgtEl>
                                          <p:spTgt spid="11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500"/>
                                        <p:tgtEl>
                                          <p:spTgt spid="11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7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2" dur="500"/>
                                        <p:tgtEl>
                                          <p:spTgt spid="1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7" dur="500"/>
                                        <p:tgtEl>
                                          <p:spTgt spid="11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加冕成王</cp:lastModifiedBy>
  <dcterms:modified xsi:type="dcterms:W3CDTF">2020-07-17T02:34:15Z</dcterms:modified>
  <cp:revision>2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828</vt:lpwstr>
  </property>
</Properties>
</file>